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2F1A-C9C6-4E65-A9AA-B3B92A46F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6418-8129-405C-8E8E-02978F238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CD8E-8E6B-4D13-8803-25C652302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192E-D065-4644-9F6D-120008C24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FA55-711F-41CF-9F88-73709A83A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9244-0851-470B-9A63-7C481B085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1FB5-8E9C-4D8D-AC40-7729D2E1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257D-E99E-43FE-8704-FF2AFE7E1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AB31-49C0-4554-A935-7DAEF88A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3404-EDC0-41DC-AA09-034565797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B94-F07C-4D35-BCC8-4DE3BFFD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8FDB-7640-4893-97FE-EA0BA73A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B5D-E5D0-42D2-B27F-92DCCA176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975-F6E4-4ED7-9C80-C757CF0F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91DB-8EED-47FF-A41D-A316B6B2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658C-A6D2-41FE-93E5-45B8467E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4761-8D13-44D6-BBCE-7761AD97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3881-BCD0-49B0-9925-230BF01E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F043-BE89-4088-A2E8-C8FD2F52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D9A1-E626-428E-9C5F-390AB833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64DD-9FCC-4CF0-8F38-27EC7368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423-88C2-4219-8025-174B1DEF1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2D81-C3BE-4F10-9C64-09C5A9A7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930D-20F1-4A89-AA6E-0BEC9DED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C82B-66F3-46AF-9A9D-A8C50C71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25E7-25BC-40ED-B19A-1C968F39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37A8-9512-4E8D-ACAF-B1D2BA21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5C4-A74B-4D3A-BA63-C6629733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CF5-1FCA-4D98-9C4F-927EE2F8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7394-1D0E-4A04-A74A-76347AB5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B79D-015C-41EE-8180-61D67D85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237-D882-4EC6-9F41-D3FA60C8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0B36-81A2-4BF6-AB0D-B8173F29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1F2-0D14-412A-9C9F-64F346E5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AB4E-7464-481F-A03D-F0420BA27C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8499-C236-47A1-8D10-0A34CFF7FA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1752120"/>
            <a:ext cx="678168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ECHNOLOGY IN EL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9240" y="3049560"/>
            <a:ext cx="6313680" cy="17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INFORM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A COMPUT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ICROCOMPU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6172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 information system has five parts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2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w, unprocessed facts including text, numbers, images and soun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describes something that is stored electronically in a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cument files created by word proces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sheet files crated by spreadshe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base file created by database management program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sentation files created by presentation graphics program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ONENTS OF A COMPUTER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2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puter system has three main component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rmw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puter system performs 4 important tasks (Sharp, 2005:3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ing input : figures, facts or sets of instru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ing information : place in mem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ing the data : act on the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ing the information : process and generate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ASK OF COMPUTER SYSTE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"/>
          <p:cNvSpPr/>
          <p:nvPr/>
        </p:nvSpPr>
        <p:spPr>
          <a:xfrm>
            <a:off x="533520" y="2666880"/>
            <a:ext cx="1523880" cy="838440"/>
          </a:xfrm>
          <a:prstGeom prst="rect">
            <a:avLst/>
          </a:prstGeom>
          <a:solidFill>
            <a:srgbClr val="cc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5"/>
          <p:cNvCxnSpPr/>
          <p:nvPr/>
        </p:nvCxnSpPr>
        <p:spPr>
          <a:xfrm>
            <a:off x="2437920" y="3123720"/>
            <a:ext cx="839160" cy="1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5" name="Oval 6"/>
          <p:cNvSpPr/>
          <p:nvPr/>
        </p:nvSpPr>
        <p:spPr>
          <a:xfrm>
            <a:off x="3581280" y="2590920"/>
            <a:ext cx="1676520" cy="990360"/>
          </a:xfrm>
          <a:prstGeom prst="ellipse">
            <a:avLst/>
          </a:prstGeom>
          <a:solidFill>
            <a:srgbClr val="cc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8"/>
          <p:cNvCxnSpPr/>
          <p:nvPr/>
        </p:nvCxnSpPr>
        <p:spPr>
          <a:xfrm>
            <a:off x="5486400" y="3123720"/>
            <a:ext cx="991440" cy="1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Rectangle 9"/>
          <p:cNvSpPr/>
          <p:nvPr/>
        </p:nvSpPr>
        <p:spPr>
          <a:xfrm>
            <a:off x="6781680" y="2743200"/>
            <a:ext cx="1752840" cy="762120"/>
          </a:xfrm>
          <a:prstGeom prst="rect">
            <a:avLst/>
          </a:prstGeom>
          <a:solidFill>
            <a:srgbClr val="cc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11"/>
          <p:cNvCxnSpPr/>
          <p:nvPr/>
        </p:nvCxnSpPr>
        <p:spPr>
          <a:xfrm>
            <a:off x="4190760" y="3657600"/>
            <a:ext cx="1080" cy="83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9" name="Straight Arrow Connector 14"/>
          <p:cNvCxnSpPr/>
          <p:nvPr/>
        </p:nvCxnSpPr>
        <p:spPr>
          <a:xfrm flipV="1">
            <a:off x="4800240" y="3657240"/>
            <a:ext cx="1080" cy="83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0" name="Rounded Rectangle 16"/>
          <p:cNvSpPr/>
          <p:nvPr/>
        </p:nvSpPr>
        <p:spPr>
          <a:xfrm>
            <a:off x="3200400" y="4876920"/>
            <a:ext cx="2743200" cy="10666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 MAIN ASPECTS OF DATA HANDL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put de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ccept data or commands in a form that the computer can use: they send the data or commands to the processing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nown as CPU, has electronic circuitry that manipulates input data into information that people require. The CPU execute computer instru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pu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isplay the people the processed data; information in understandable and us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eans secondary storage; consists of secondary storage devices such as hard disk, diskettes, pendr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store data and programmes outside the computer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se devices supplement memory or primary storage, can hold data or programmes temporar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Inpu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3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put refers to any data or instructions that are used by a computer. All computer processing requires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ever you use computer or application software, you are providing input. You typically use a keyboard to type text and a mouse to issue comma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put De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yst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uch Scr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ght 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 code r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came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deo came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phic tabl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ice recognition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Proces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0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computer manipulates the data to create 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refers to data processed into a form that has meaning and is use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ssing Devices/System Un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9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ther board/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PU/Microproces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mory – RAM, R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ansion Slots and Ca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Clo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 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rts and Cab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-743040">
              <a:buClr>
                <a:srgbClr val="33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Outpu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5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processed data or inform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put devices provide output to people by translating what the computer has processed into a form that people can understand and u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PONENTS OF INFORMATION TECHN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59" name="Diagram 8"/>
          <p:cNvGrpSpPr/>
          <p:nvPr/>
        </p:nvGrpSpPr>
        <p:grpSpPr>
          <a:xfrm>
            <a:off x="2139120" y="1600200"/>
            <a:ext cx="4941360" cy="4888800"/>
            <a:chOff x="2139120" y="1600200"/>
            <a:chExt cx="4941360" cy="4888800"/>
          </a:xfrm>
        </p:grpSpPr>
        <p:sp>
          <p:nvSpPr>
            <p:cNvPr id="160" name="_s1028"/>
            <p:cNvSpPr/>
            <p:nvPr/>
          </p:nvSpPr>
          <p:spPr>
            <a:xfrm flipH="1" flipV="1">
              <a:off x="3390840" y="3826800"/>
              <a:ext cx="609840" cy="20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29"/>
            <p:cNvSpPr/>
            <p:nvPr/>
          </p:nvSpPr>
          <p:spPr>
            <a:xfrm>
              <a:off x="2139120" y="2964960"/>
              <a:ext cx="1281600" cy="1316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30"/>
            <p:cNvSpPr/>
            <p:nvPr/>
          </p:nvSpPr>
          <p:spPr>
            <a:xfrm flipH="1">
              <a:off x="3856680" y="4766040"/>
              <a:ext cx="3772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1"/>
            <p:cNvSpPr/>
            <p:nvPr/>
          </p:nvSpPr>
          <p:spPr>
            <a:xfrm>
              <a:off x="2838600" y="5172840"/>
              <a:ext cx="1281600" cy="1316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2"/>
            <p:cNvSpPr/>
            <p:nvPr/>
          </p:nvSpPr>
          <p:spPr>
            <a:xfrm>
              <a:off x="4987440" y="4763880"/>
              <a:ext cx="3769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3"/>
            <p:cNvSpPr/>
            <p:nvPr/>
          </p:nvSpPr>
          <p:spPr>
            <a:xfrm>
              <a:off x="5099040" y="5172840"/>
              <a:ext cx="1281600" cy="1316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34"/>
            <p:cNvSpPr/>
            <p:nvPr/>
          </p:nvSpPr>
          <p:spPr>
            <a:xfrm flipV="1">
              <a:off x="5218560" y="3825360"/>
              <a:ext cx="609840" cy="20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35"/>
            <p:cNvSpPr/>
            <p:nvPr/>
          </p:nvSpPr>
          <p:spPr>
            <a:xfrm>
              <a:off x="5798880" y="2964960"/>
              <a:ext cx="1281600" cy="1316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36"/>
            <p:cNvSpPr/>
            <p:nvPr/>
          </p:nvSpPr>
          <p:spPr>
            <a:xfrm flipV="1">
              <a:off x="4609800" y="2916000"/>
              <a:ext cx="0" cy="65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7"/>
            <p:cNvSpPr/>
            <p:nvPr/>
          </p:nvSpPr>
          <p:spPr>
            <a:xfrm>
              <a:off x="3969000" y="1600200"/>
              <a:ext cx="1281240" cy="131616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38"/>
            <p:cNvSpPr/>
            <p:nvPr/>
          </p:nvSpPr>
          <p:spPr>
            <a:xfrm>
              <a:off x="3969000" y="3576600"/>
              <a:ext cx="1281240" cy="1315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put De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2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itor – CRT, LC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CD proj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deo scan conver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.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Storag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can be stored in a computer for future u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computers have a hard disk drive to store programmes and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torage Devi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35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movable Dis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ppy Dr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D-ROM, R, R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VD-ROM, R, R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n Drive, Thumb Drive, Zip Dr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Hard Dis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1447920"/>
            <a:ext cx="678168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TEST YOUR UNDERSTANDING!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sualize these components and draw them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4038480" cy="34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c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8320" y="1719000"/>
            <a:ext cx="4038480" cy="39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her 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t C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B 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S2 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lel 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ial 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ppy Dr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COUNT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B =_______ B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KB = _______ 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MB = _______ 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GB = _______ 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TB = _______ G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700MB = _____ G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28MG = _____ 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512MG = _____ G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16GB = _____ 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256KB = _____ M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nary system works on ____ digits, i.e. _____ and 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requency wave is based on ______ and 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raw th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 CATEGOR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2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ral-pur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lso known as basic app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ncludes browsers, word processors, spreadsheets, database management systems and presentation graph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lso known as advanced applications, include multimedia, web authoring, graphics, virtual reality, artificial intellig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4 general-purpose softwa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24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d process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read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base Management Syst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entation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 information system has five parts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16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st important part as they make end-users more product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 information system has five parts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6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 to rules or guidelines people follow when using software, hardware and da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ed in manuals written by computer special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d by software/hardware manufacturers of the produ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 information system has five parts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32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software is the term for programmes or sets of computer instruc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ten in special computer language that enable a computer to accomplish a given tas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onsists of step-by-step instructions, which the computer can use to convert data into infor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 information system has five parts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uter components that are physical, touchable pieces or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consists of the system unit, input/output, secondary storage and communication dev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types of computers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computers – the most powerful type of compu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nframe – occupy specially wired, air-conditioned roo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Minicomputers – desk-sized machines used for specif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po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Microcomputers – include the desktop, notebook and persona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assis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UPERCOMPU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084320" y="1719360"/>
            <a:ext cx="69753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AINFRA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41044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INICOMPU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630440" y="1719360"/>
            <a:ext cx="58831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6:35:58Z</dcterms:created>
  <dc:creator>user</dc:creator>
  <dc:description/>
  <dc:language>en-US</dc:language>
  <cp:lastModifiedBy>Buckrie</cp:lastModifiedBy>
  <dcterms:modified xsi:type="dcterms:W3CDTF">2012-04-20T01:34:36Z</dcterms:modified>
  <cp:revision>9</cp:revision>
  <dc:subject/>
  <dc:title>TECHNOLOGY IN ELT</dc:title>
</cp:coreProperties>
</file>